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B5E-C038-4E14-AF7F-45816E50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E48-2FBD-45E9-BA91-67B2A3F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5E9-AD68-4993-9C74-6D382F9C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E5E-5D6C-4076-AA9D-6FCD04B1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D1A4-47B0-4292-B676-9259DFDD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FD8-98C6-4528-9989-0A5E5CA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1E55-4D0E-4C5D-AE2B-A8F79E1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DD8-148D-4BD4-A671-BE233C3B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8E1-6478-4D43-864A-07F7DB2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E525-79C0-4D8A-8D70-116129E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15B-23C3-4D50-9C6A-45BF3E4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599-44A7-417B-ACE3-D91978C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371-D05D-42E4-93CA-59C9DAE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6CAF-F005-4EAA-9FA1-A049781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48FC-6A23-4237-AFDB-B3E24FE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583B-EC2C-4E2C-9E54-58313F97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4690-4E92-46D6-ADE2-FAE98905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901-C3EC-4DE8-A44D-14B134A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4FB-CB4C-44C2-B947-3879831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796-BB4B-49F5-8C25-9A6B136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6AD-AA26-4395-A869-0EB4AD3A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F21-6619-4FC9-9189-4010B79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657-C175-43F7-88FB-E15EB41F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64D-A545-44C1-9CF4-2CD0B46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491-A3B2-4D2D-88E4-A913E604E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38E-6C89-4503-833B-2A41EB5D7E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83808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odore 64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net BBS Ser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5181480"/>
            <a:ext cx="7010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f Bloomquist – Toronto,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WRAP Expo – Lombard, IL, USA    October 11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2590920" y="1981080"/>
          <a:ext cx="342900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342900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server application+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.ica.net/~leifb/bbs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 Lists, hardware plans, et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etsci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5561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nk you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 and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dore 64 BBS that anyone on the Internet can “Telnet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 distanc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a second phon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ecial software on C64 s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BB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8"/>
          <p:cNvSpPr/>
          <p:nvPr/>
        </p:nvSpPr>
        <p:spPr>
          <a:xfrm>
            <a:off x="4343400" y="3048120"/>
            <a:ext cx="1600200" cy="1218960"/>
          </a:xfrm>
          <a:prstGeom prst="rect">
            <a:avLst/>
          </a:prstGeom>
          <a:solidFill>
            <a:srgbClr val="2663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191120" y="3276720"/>
            <a:ext cx="1981080" cy="10666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80880" y="350532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20"/>
          <p:cNvSpPr/>
          <p:nvPr/>
        </p:nvSpPr>
        <p:spPr>
          <a:xfrm flipV="1">
            <a:off x="1143000" y="3429000"/>
            <a:ext cx="1447920" cy="8380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3581280"/>
            <a:ext cx="60948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3200400" y="3733920"/>
            <a:ext cx="114300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0BaseT Ethern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4343400" y="3505320"/>
            <a:ext cx="4572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 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800600" y="3657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486400" y="3581280"/>
            <a:ext cx="457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5943600" y="3733920"/>
            <a:ext cx="144792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ull Modem C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2"/>
          <p:cNvGrpSpPr/>
          <p:nvPr/>
        </p:nvGrpSpPr>
        <p:grpSpPr>
          <a:xfrm>
            <a:off x="7391520" y="3581280"/>
            <a:ext cx="1371600" cy="1219320"/>
            <a:chOff x="7391520" y="3581280"/>
            <a:chExt cx="1371600" cy="1219320"/>
          </a:xfrm>
        </p:grpSpPr>
        <p:sp>
          <p:nvSpPr>
            <p:cNvPr id="159" name="Rectangle 21"/>
            <p:cNvSpPr/>
            <p:nvPr/>
          </p:nvSpPr>
          <p:spPr>
            <a:xfrm>
              <a:off x="7391520" y="4114800"/>
              <a:ext cx="137160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modore 6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011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35"/>
          <p:cNvSpPr/>
          <p:nvPr/>
        </p:nvSpPr>
        <p:spPr>
          <a:xfrm>
            <a:off x="1909080" y="213372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elnet BBS Server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3352680" y="2438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Visual Basic 6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sock” Object for TCP/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omm Object for COM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as background t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ly a “software rou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39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s for connections on TCP/IP Port 23 (Tel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nnection detected, “Rings” the B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s to be a 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ly forwards data between Telnet server and COM 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s Up” if Telnet Client disconn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nects Telnet Client if BBS Hang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s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BS 3.3 by Ed Parry (19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IP:   209.151.141.59    Port 2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c64bbs.no-ip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since April 10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rpri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S isn’t Y2K Compl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ILLEGAL QUANTITY ERROR IN 31527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odem protocol upload/download works if “calling” from a real C6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callers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250 unique callers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time character translation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I &lt;-&gt; PETS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ith more BBS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Modem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for gaming?  (Modem W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hardw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knowledg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Ledger (testing, sugges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 Zimmers (BBS program arch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ny Beckett (discu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li Bloomquist (support, patience :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37:01Z</dcterms:created>
  <dc:creator>Leif Bloomquist</dc:creator>
  <dc:description/>
  <dc:language>en-US</dc:language>
  <cp:lastModifiedBy>Leif</cp:lastModifiedBy>
  <dcterms:modified xsi:type="dcterms:W3CDTF">2012-11-05T05:16:49Z</dcterms:modified>
  <cp:revision>111</cp:revision>
  <dc:subject/>
  <dc:title>Commodore 64 Telnet BBS Server</dc:title>
</cp:coreProperties>
</file>